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hoosh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1FF-ADFC-46B9-99A0-1DD383C5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A93-F5BE-4A19-8E10-CA2BD71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4C9-6A7F-4989-9D52-74EDB474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678-CA33-4A2E-AD6C-45207EA0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2BC-58CE-4076-AF43-799751F5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616-CA32-4B7E-96E7-26FE0279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405-0CF5-48AF-A469-69795E90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5F6-8A8D-4F2D-84C3-6A9F28F2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93B-566F-4433-A0F7-59C2C479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1A2-E60F-4DFB-97D2-72D484D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AED-6871-4096-BC7B-317D2984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021-BE0F-4C52-9B37-E09AECB9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A20E-90B1-45A7-AA8D-1EE374BE96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Jasón y los Argon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Marta Sánchez Sánc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Referente de cine de aventuras.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Busqueda del teso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asón y los argonau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iaje fantástico de Simb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caho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960-1970 el referente pasó a tener grán éxito gracias a 007. Título más tarde arrebatado por la saga de Idiana Jones. Casi reemplazando al referente clásico conviertiendose así en referente de cine de avent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E:\jason\james-bond-007.jpg"/>
          <p:cNvPicPr/>
          <p:nvPr/>
        </p:nvPicPr>
        <p:blipFill>
          <a:blip r:embed="rId1"/>
          <a:stretch/>
        </p:blipFill>
        <p:spPr>
          <a:xfrm>
            <a:off x="762120" y="4572000"/>
            <a:ext cx="3105000" cy="207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E:\jason\indiana-jones-reino-calavera-cristal.jpg"/>
          <p:cNvPicPr/>
          <p:nvPr/>
        </p:nvPicPr>
        <p:blipFill>
          <a:blip r:embed="rId2"/>
          <a:stretch/>
        </p:blipFill>
        <p:spPr>
          <a:xfrm>
            <a:off x="5486400" y="4572000"/>
            <a:ext cx="149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Nos da un referente 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éroe cl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iaja para el cumplimiento de una 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sión arries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ne como objetivo, conseguir un tesoro, encargado prev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E:\jason\18_preview.jpg"/>
          <p:cNvPicPr/>
          <p:nvPr/>
        </p:nvPicPr>
        <p:blipFill>
          <a:blip r:embed="rId1"/>
          <a:stretch/>
        </p:blipFill>
        <p:spPr>
          <a:xfrm>
            <a:off x="6095880" y="3733920"/>
            <a:ext cx="17877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Fases de la búsqued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ncargo prev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Viaje largo y accid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legada al lugar y enfrent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yuda inesperada y amor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Huida accident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Retorno victorio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Encargo Prev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2120" y="1905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r mandato del rey Pelias, tiene que ir en busca del vellocino de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E:\jason\07000.jpg"/>
          <p:cNvPicPr/>
          <p:nvPr/>
        </p:nvPicPr>
        <p:blipFill>
          <a:blip r:embed="rId1"/>
          <a:stretch/>
        </p:blipFill>
        <p:spPr>
          <a:xfrm>
            <a:off x="3581280" y="2514600"/>
            <a:ext cx="2867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Viaje accident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9480" y="175248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asón se tiene que enfrentar a un largo viaje lleno de dificultades que sobrepasará con éxito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s ar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jaros de plumas de br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cia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E:\jason\mapa1.jpg"/>
          <p:cNvPicPr/>
          <p:nvPr/>
        </p:nvPicPr>
        <p:blipFill>
          <a:blip r:embed="rId1"/>
          <a:stretch/>
        </p:blipFill>
        <p:spPr>
          <a:xfrm>
            <a:off x="4724280" y="3962520"/>
            <a:ext cx="3944880" cy="2689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E:\jason\Image24.jpg"/>
          <p:cNvPicPr/>
          <p:nvPr/>
        </p:nvPicPr>
        <p:blipFill>
          <a:blip r:embed="rId2"/>
          <a:stretch/>
        </p:blipFill>
        <p:spPr>
          <a:xfrm>
            <a:off x="838080" y="4419720"/>
            <a:ext cx="3181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Llegada al lugar y enfrentam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2057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 la llegada al lugar donde se guarda el vellocino de oro, Jasón tiene que enfrentarse a tres pruebas, solo si las supera conseguirá el velloc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E:\jason\003103.jpg"/>
          <p:cNvPicPr/>
          <p:nvPr/>
        </p:nvPicPr>
        <p:blipFill>
          <a:blip r:embed="rId1"/>
          <a:stretch/>
        </p:blipFill>
        <p:spPr>
          <a:xfrm>
            <a:off x="5630760" y="2971800"/>
            <a:ext cx="2500560" cy="357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E:\jason\baur1703b7p63.jpg"/>
          <p:cNvPicPr/>
          <p:nvPr/>
        </p:nvPicPr>
        <p:blipFill>
          <a:blip r:embed="rId2"/>
          <a:stretch/>
        </p:blipFill>
        <p:spPr>
          <a:xfrm>
            <a:off x="533520" y="3657600"/>
            <a:ext cx="44193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yuda inesperada y amoro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1828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 la llegada al lugar Jasón contara con la ayuda de Medea, que posee atributos de maga y es sobrina de Ci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E:\jason\FrederickSandys-Medea-1890.jpg"/>
          <p:cNvPicPr/>
          <p:nvPr/>
        </p:nvPicPr>
        <p:blipFill>
          <a:blip r:embed="rId1"/>
          <a:stretch/>
        </p:blipFill>
        <p:spPr>
          <a:xfrm>
            <a:off x="5029200" y="2590920"/>
            <a:ext cx="338292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:\jason\jasonmedea.jpg"/>
          <p:cNvPicPr/>
          <p:nvPr/>
        </p:nvPicPr>
        <p:blipFill>
          <a:blip r:embed="rId2"/>
          <a:stretch/>
        </p:blipFill>
        <p:spPr>
          <a:xfrm>
            <a:off x="1600200" y="2743200"/>
            <a:ext cx="212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Huida accident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9051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seguido el vellocino Jasón tendrá que huir del lugar junto a los argonautas y Me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E:\jason\000704203.jpg"/>
          <p:cNvPicPr/>
          <p:nvPr/>
        </p:nvPicPr>
        <p:blipFill>
          <a:blip r:embed="rId1"/>
          <a:stretch/>
        </p:blipFill>
        <p:spPr>
          <a:xfrm>
            <a:off x="2806560" y="2819520"/>
            <a:ext cx="29559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Retorno victorios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3520" y="17524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 vuelta al hogar con el vellocino, la historia deja abierto el final para posibles contin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:\jason\vellocino.jpg"/>
          <p:cNvPicPr/>
          <p:nvPr/>
        </p:nvPicPr>
        <p:blipFill>
          <a:blip r:embed="rId1"/>
          <a:stretch/>
        </p:blipFill>
        <p:spPr>
          <a:xfrm>
            <a:off x="2590920" y="2743200"/>
            <a:ext cx="36795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6:11:35Z</dcterms:created>
  <dc:creator>eselza</dc:creator>
  <dc:description/>
  <dc:language>en-US</dc:language>
  <cp:lastModifiedBy>EVOLUTIONMAX</cp:lastModifiedBy>
  <dcterms:modified xsi:type="dcterms:W3CDTF">2010-01-28T19:24:04Z</dcterms:modified>
  <cp:revision>3</cp:revision>
  <dc:subject/>
  <dc:title>Jasón y los Argonautas</dc:title>
</cp:coreProperties>
</file>